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874-211A-4520-840C-4C1E543D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639-B05A-4580-BEFC-0DA5E27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9FA-E3AF-4017-87E9-9C0E625A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0D7-2667-49EC-A550-0AC4CD18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98D-EC7B-46F9-AE7E-6E22D7B5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534-1DAF-40D8-8D2B-D36E066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646-C9F5-4D59-88EF-3227A9E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FA3-5753-40BE-BC67-A7A2347A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EC2-CFA6-495C-A5D9-CEE81F58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53B-9975-4C3A-BF66-6C8B6E4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0AD-D848-43CD-A28F-7AFFD4C7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16A-029D-4DA8-9BAB-FBD087D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4F0-C402-4EBE-BC02-6F1A91D33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ior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un survey for your seni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their senior picture and add the answers to the survey to create a fun dis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ll now have their pictures for Alumni ne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405" t="7246" r="57271" b="3481"/>
          <a:stretch/>
        </p:blipFill>
        <p:spPr>
          <a:xfrm>
            <a:off x="2057400" y="0"/>
            <a:ext cx="4836960" cy="685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967800">
            <a:off x="533160" y="228600"/>
            <a:ext cx="20476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Georgia"/>
              </a:rPr>
              <a:t>sembl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Georgia"/>
              <a:ea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wor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5791320"/>
            <a:ext cx="49341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"/>
              </a:rPr>
              <a:t>Playing Eggsper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"/>
              <a:ea typeface="Scrip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257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mem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29040" y="4343400"/>
            <a:ext cx="431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 Soleil </a:t>
            </a:r>
            <a:endParaRPr b="0" lang="en-US" sz="2400" spc="1" strike="noStrike">
              <a:ln w="0">
                <a:noFill/>
              </a:ln>
              <a:solidFill>
                <a:srgbClr val="00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Jenifer</a:t>
            </a:r>
            <a:endParaRPr b="0" lang="en-US" sz="2400" spc="1" strike="noStrike">
              <a:ln w="0">
                <a:noFill/>
              </a:ln>
              <a:solidFill>
                <a:srgbClr val="00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vorite so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533520"/>
            <a:ext cx="37051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vre An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52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vorite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 rot="693600">
            <a:off x="6753240" y="1523880"/>
            <a:ext cx="23907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latin typeface="Candara"/>
              </a:rPr>
              <a:t>Etre et Avoir</a:t>
            </a:r>
            <a:endParaRPr b="0" lang="en-US" sz="2800" spc="1" strike="noStrike">
              <a:ln w="9360">
                <a:solidFill>
                  <a:srgbClr val="3333cc"/>
                </a:solidFill>
                <a:miter/>
              </a:ln>
              <a:solidFill>
                <a:srgbClr val="000000"/>
              </a:solidFill>
              <a:latin typeface="Candara"/>
              <a:ea typeface="Candara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371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vorite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5680" y="2438280"/>
            <a:ext cx="220032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unga"/>
              </a:rPr>
              <a:t>les crêp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unga"/>
              <a:ea typeface="Tunga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905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fo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148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Nicolas Sarkozy / Jean Valje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French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Pratiquez pour les présen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791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ce to stud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6581880"/>
            <a:ext cx="27432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th Gantenbein French IV 2009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152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bo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590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i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05720" y="28954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Cla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Mon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3:55:50Z</dcterms:created>
  <dc:creator>Deb</dc:creator>
  <dc:description/>
  <dc:language>en-US</dc:language>
  <cp:lastModifiedBy>Deb</cp:lastModifiedBy>
  <dcterms:modified xsi:type="dcterms:W3CDTF">2010-11-04T03:55:56Z</dcterms:modified>
  <cp:revision>1</cp:revision>
  <dc:subject/>
  <dc:title>Senior Survey</dc:title>
</cp:coreProperties>
</file>